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5B3-3343-479E-95CF-1BEDA763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8715-1505-4DAE-9A02-A0569A9E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2F5D-77FA-4CDC-9895-8692CBD5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159-8E88-4FE1-BBEA-A9B5D53C7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F048-7553-4ECE-89A3-9987524C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0C8D-279E-4486-8DAB-7C380695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507D-B1FB-40FA-9807-6F9F96D4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E2F1-C5AB-47EF-A334-ED160D7E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58EF-A95E-40F0-875F-BDB1300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DFDD-8940-4C24-8017-BCA105AB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A08A-BCC8-4D41-98F8-4959AB69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37E-A645-47E1-B004-4439D7CB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727-1243-4C63-A5F3-902F2514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FE15-D16F-4176-8911-A4936A0B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0B57-690F-49C9-A8DE-2EAB0D31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B007-AAE5-4432-989A-248904B3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F031-A6A0-40CB-9A1D-313B131A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7BB5-295D-4F80-A336-AC61F5B5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26D4-E0FD-4E68-B9E7-2D93C742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8C0-CE6C-479C-8CB0-E1EB0953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A345-D1B3-4EF1-82D2-AE0E7D2E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479E-ECD5-4ED0-99BF-4E5F8006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FB45-A7A4-4FCC-B9F2-008F2D95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367-6A93-4B34-A94B-36FE7DCE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E72A-35C3-4F5C-88C1-FF4827AEF3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FE5-DF85-4000-BC91-628A3420A0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0244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Особенности компьютерной зависимости у старшеклассников.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86000" y="525744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ила: Чечулина Дарья, 11 класс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имназия №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уководитель: Михеева И.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нализ результатов исследования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ная зависимость в физмат классе была обнаружена лишь у 12% учащихся). Учащиеся же гуманитарного класса чаще применяют компьютер как средство снятия стресса и напряженности, основной целью для многих является  общение (чаты, форумы). Из всех ребят-филологов компьютерная зависимость была выявлена у 56%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"/>
                            </p:stCondLst>
                            <p:childTnLst>
                              <p:par>
                                <p:cTn id="1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нализ результатов исследовани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проведенное нами исследование показало, что наиболее подвержены компьютерной зависимости мальчики в возрасте от 12 до 14 лет, а также – учащиеся классов гуманитарных профилей. В более выгодном положении находятся ученики физмат-классов: для них компьютер – не более чем средство выполнения домашнего задания и поиска необходимой информации. В отличие от младших подростков, которые в большей степени зависимы от компьютерных игр, для старшеклассников свойственна Интернет-зависимость. Гипотеза доказа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говорить об ошибках, которые совершают окружающие люди по отношению к компьютерным поклонникам, то можно назвать самое распространенное – запрет. Но, просто запрещая ребенку или человеку играть в компьютерные игры, мы заставляем его обороняться, и в окружающем мире он видит врагов. Как известно, запретный плод сладок, и человеку, которому запрещают близко подходить к компьютеру, всегда будет казаться, что именно он прав и что нет ничего лучше, чем сеть Интернета или компьютерная игра. Тем более что ребенок или подросток начинают осваивать компьютерную науку в переходном возрасте, который характеризуется тотальными изменениями в психологии ребенка, отрицании всех устоев общества. Однако для того чтобы принимать решение о лечении или использовании этих методов, необходимо удостовериться в том, что человек, будь то ребенок или взрослый, действительно подвержен негативному влиянию компьютерных игр и Интерн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2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изучить особенности компьютерной зависимости у детей старшего 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сти теоретический анализ литературы по проблеме компьютерной зависимости у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ставить программу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омпьютерная зависим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мет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обенности компьютерной зависимости у детей старшего школьно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ипотеза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уществуют определенные группы риска среди учащихся: старшеклассники в большей степени подвержены интернет-зависим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ы исследования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теоретический анализ научных источников, наблюдение, анкетирование, методы математической статист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948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висимост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навязчивая потребность, ощущаемая человеком, подвигающая к определенной 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ддик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— состояние сознания человека, характеризующееся уходом от реальности с помощью искусственных, часто химических сред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368316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Химические виды зависимости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3898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Табакокур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Алкоголиз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Нарком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Зависимость от лекарст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475200"/>
            <a:ext cx="36007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Нехимические виды зависимости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2137320"/>
            <a:ext cx="34257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Зависимость от ед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Зависимость от диет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Зависимость от азартных иг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Зависимость от работ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Фанатизм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Компьютерная зависим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Признаки компьютерной зависимости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потеря контроля» над временем, проведенным за компьют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выполнение обещаний данных самому себе или другим касаемо уменьшения времени, проведенного за компьют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меренное преуменьшение или ложь относительно времени проведенного за компьют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трата интереса к социальной жизни и своему внешнему ви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авдание собственного поведения и пристрас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Стадии формирования компьютерной зависимости у детей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тадия легкой увлеченности, имеет свою специфику: игра в компьютер носит скорее ситуационный, нежели систематический характ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Стадия увлеченности, необходимо появление у ребенка новой потребности – потребности играть в компьютерные игр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Стадия зависимости, происходят серьезные изменения в ценностно-смысловой сфере ребенка, изменение самосознания и само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Стадия привязанности, характеризуется угасанием игровой активности человека, смещением психологической составляющей индивида в сторону выздоровл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Исследование компьютерной зависимости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исследования особенностей компьютерной зависимости старшеклассников были взяты две группы респондентов 11 классов с различной профильной направленностью и группа учеников 7 класса (для сравнения возрастных особенностей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спондентам предлагалось ответить на несколько простых вопросов нижеприведенного теста, позволяющих выявить наличие компьютерной зависим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Анализ результатов исследования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зультаты исследования показали, что школьники среднего звена, а именно, учащиеся 7 класса, практически не испытывают проблем с Интерне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нако у 68% мальчиков-семиклассников обнаружилась зависимость от различного рода компьютерных иг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девочек из среднего звена привязанность к той или иной игре, а также, Интернету, не была выявл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8:16:25Z</dcterms:created>
  <dc:creator>Admin</dc:creator>
  <dc:description/>
  <dc:language>en-US</dc:language>
  <cp:lastModifiedBy>Admin</cp:lastModifiedBy>
  <dcterms:modified xsi:type="dcterms:W3CDTF">2009-11-04T19:19:27Z</dcterms:modified>
  <cp:revision>5</cp:revision>
  <dc:subject/>
  <dc:title>Особенности компьютерной зависимости у старшеклассников.</dc:title>
</cp:coreProperties>
</file>